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38F76-B9BA-4305-835B-42C27FCD3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5DFE7-9048-496A-B9A8-2CF31FA96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52BE9-EF27-443C-9E15-692AF2D59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1E466-55AB-4354-BAB3-A91D18E62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56A2C-8A65-4391-A5D4-02E9235B3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5C57D-BBB0-496A-A1EC-EC8C930DD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67D49-C4DC-4025-8CCC-FDC7E7163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C0242-4723-437F-8805-8FECCB0D8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92ED3-64B9-441E-8999-4BB6E96A1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FFBFF-5B2E-43F3-85C1-933480FF5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E2E21-0FC0-4253-AE06-B713D78F5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7C9D4-C12B-48A7-8089-6C24A5471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BE16E-F56F-4159-9C40-FFAC2CC82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A5B35-DAD3-4BF0-BA8D-7FFACD887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C7F09-029B-4492-8C4C-4D582D941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7EE73-C460-4A8C-B893-69BAB09AB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B25EA-5BEB-4699-B235-4D49ADEF4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E0137-0A1C-4274-A104-1F7A3C37A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EA19C-86E1-48C6-AB39-F7E763213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3063F-8774-462B-94FC-D646A9327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600A2-C77F-4D9A-9058-B9E77597A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98464-A6CD-44AE-B696-729722863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DA911-F6A4-4520-AC15-E5372000D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D1D61-6929-45F9-A5F9-AAB28BD50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27AEA-A192-47B5-91F4-795E5F41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DEC42-76D0-40ED-AF52-099E830E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C8EA4-A8C6-4114-9D8A-CC8E8A88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D0927-BB05-4B5E-8762-2C318363F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4AF62-976B-4C92-9D49-E5EA74C45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CC70D-83F9-4549-A087-16106785A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B7EAA-0BAE-4C17-9E58-763314242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2506B-2C67-48A8-8B20-DF1D38B5F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6988F-F2E3-4CDE-807F-802D2B3D4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A0BF5-1722-4363-80D7-861B29A1E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F16F9-760E-444E-A836-9DFC3829C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927A6-4DC3-421D-8E60-1A459B2DE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6EA60-1440-4575-AD3D-1BA86883F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A3274-36ED-4132-86D6-02DD4F9E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D3D83-23C9-4C2C-B1C5-E42415432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027EB-75F7-4D6B-81ED-C6A1D4B0D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EA9C7-FCB1-4184-B0D9-8B3BA8830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A240F-698A-46EF-84E6-F92029560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4178C-A2CD-4FF8-AD0C-D65F5F454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FAE0A-0B6B-4C2B-9176-9C5C3B7EE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6C824-D100-4FDC-92A6-9ACDFABD3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B1309-A948-4411-9405-D4760ADF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D273E-19D3-4D95-9160-6F34380CC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44000-BFE1-4610-99FD-5B50433CF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25.xml"/><Relationship Id="rId35" Type="http://schemas.openxmlformats.org/officeDocument/2006/relationships/slideLayout" Target="../slideLayouts/slideLayout26.xml"/><Relationship Id="rId36" Type="http://schemas.openxmlformats.org/officeDocument/2006/relationships/slideLayout" Target="../slideLayouts/slideLayout27.xml"/><Relationship Id="rId37" Type="http://schemas.openxmlformats.org/officeDocument/2006/relationships/slideLayout" Target="../slideLayouts/slideLayout28.xml"/><Relationship Id="rId38" Type="http://schemas.openxmlformats.org/officeDocument/2006/relationships/slideLayout" Target="../slideLayouts/slideLayout29.xml"/><Relationship Id="rId39" Type="http://schemas.openxmlformats.org/officeDocument/2006/relationships/slideLayout" Target="../slideLayouts/slideLayout30.xml"/><Relationship Id="rId40" Type="http://schemas.openxmlformats.org/officeDocument/2006/relationships/slideLayout" Target="../slideLayouts/slideLayout31.xml"/><Relationship Id="rId41" Type="http://schemas.openxmlformats.org/officeDocument/2006/relationships/slideLayout" Target="../slideLayouts/slideLayout32.xml"/><Relationship Id="rId42" Type="http://schemas.openxmlformats.org/officeDocument/2006/relationships/slideLayout" Target="../slideLayouts/slideLayout33.xml"/><Relationship Id="rId43" Type="http://schemas.openxmlformats.org/officeDocument/2006/relationships/slideLayout" Target="../slideLayouts/slideLayout34.xml"/><Relationship Id="rId44" Type="http://schemas.openxmlformats.org/officeDocument/2006/relationships/slideLayout" Target="../slideLayouts/slideLayout35.xml"/><Relationship Id="rId4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slideLayout" Target="../slideLayouts/slideLayout37.xml"/><Relationship Id="rId32" Type="http://schemas.openxmlformats.org/officeDocument/2006/relationships/slideLayout" Target="../slideLayouts/slideLayout38.xml"/><Relationship Id="rId33" Type="http://schemas.openxmlformats.org/officeDocument/2006/relationships/slideLayout" Target="../slideLayouts/slideLayout39.xml"/><Relationship Id="rId34" Type="http://schemas.openxmlformats.org/officeDocument/2006/relationships/slideLayout" Target="../slideLayouts/slideLayout40.xml"/><Relationship Id="rId35" Type="http://schemas.openxmlformats.org/officeDocument/2006/relationships/slideLayout" Target="../slideLayouts/slideLayout41.xml"/><Relationship Id="rId36" Type="http://schemas.openxmlformats.org/officeDocument/2006/relationships/slideLayout" Target="../slideLayouts/slideLayout42.xml"/><Relationship Id="rId37" Type="http://schemas.openxmlformats.org/officeDocument/2006/relationships/slideLayout" Target="../slideLayouts/slideLayout43.xml"/><Relationship Id="rId38" Type="http://schemas.openxmlformats.org/officeDocument/2006/relationships/slideLayout" Target="../slideLayouts/slideLayout44.xml"/><Relationship Id="rId39" Type="http://schemas.openxmlformats.org/officeDocument/2006/relationships/slideLayout" Target="../slideLayouts/slideLayout45.xml"/><Relationship Id="rId40" Type="http://schemas.openxmlformats.org/officeDocument/2006/relationships/slideLayout" Target="../slideLayouts/slideLayout46.xml"/><Relationship Id="rId41" Type="http://schemas.openxmlformats.org/officeDocument/2006/relationships/slideLayout" Target="../slideLayouts/slideLayout47.xml"/><Relationship Id="rId42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1AA46-F19B-4EAB-836C-DD7A5BA5FA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cc6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ba31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cc6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5BA53-718C-4512-B83B-67BA7E6D12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06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10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11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12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13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5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21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9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30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0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1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2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3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4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5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6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7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8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9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9205A-1E8B-4630-94E9-CBC831F85AAE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4"/>
    <p:sldLayoutId id="2147483676" r:id="rId35"/>
    <p:sldLayoutId id="2147483677" r:id="rId36"/>
    <p:sldLayoutId id="2147483678" r:id="rId37"/>
    <p:sldLayoutId id="2147483679" r:id="rId38"/>
    <p:sldLayoutId id="2147483680" r:id="rId39"/>
    <p:sldLayoutId id="2147483681" r:id="rId40"/>
    <p:sldLayoutId id="2147483682" r:id="rId41"/>
    <p:sldLayoutId id="2147483683" r:id="rId42"/>
    <p:sldLayoutId id="2147483684" r:id="rId43"/>
    <p:sldLayoutId id="2147483685" r:id="rId44"/>
    <p:sldLayoutId id="2147483686" r:id="rId4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202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207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208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209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11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1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3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4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25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26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7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8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9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0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1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4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5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6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7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8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9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0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1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2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3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4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45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dt" idx="10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ftr" idx="11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sldNum" idx="12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5F3C3-6117-474F-8BBB-27A261686C96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1"/>
    <p:sldLayoutId id="2147483689" r:id="rId32"/>
    <p:sldLayoutId id="2147483690" r:id="rId33"/>
    <p:sldLayoutId id="2147483691" r:id="rId34"/>
    <p:sldLayoutId id="2147483692" r:id="rId35"/>
    <p:sldLayoutId id="2147483693" r:id="rId36"/>
    <p:sldLayoutId id="2147483694" r:id="rId37"/>
    <p:sldLayoutId id="2147483695" r:id="rId38"/>
    <p:sldLayoutId id="2147483696" r:id="rId39"/>
    <p:sldLayoutId id="2147483697" r:id="rId40"/>
    <p:sldLayoutId id="2147483698" r:id="rId41"/>
    <p:sldLayoutId id="2147483699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685800" y="457200"/>
            <a:ext cx="6172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Что дают нам в жизни десятичные дроб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80880" y="2133720"/>
            <a:ext cx="6324840" cy="32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Цель:</a:t>
            </a: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изучение десятичных дроб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Познакомиться с особенностями десятичных дроб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2.Выяснить, какие действия можно выполнять с десятичными дроб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равни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5,09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67,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5,7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55,7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0,0025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0,0024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98,5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65,3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49,63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150,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,55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3,6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,784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6,718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68544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ложение и вычитание десятичных дробе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3581280" y="4191120"/>
                <a:ext cx="2057400" cy="16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00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51</m:t>
                        </m:r>
                      </m:e>
                      <m:e>
                        <m:r>
                          <m:t xml:space="preserve">6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5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44" name=""/>
          <p:cNvSpPr/>
          <p:nvPr/>
        </p:nvSpPr>
        <p:spPr>
          <a:xfrm>
            <a:off x="762120" y="1523880"/>
            <a:ext cx="7772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Сложим десятичные дроби 3,7 и 2,651. Сначала уравняем количество цифр после запятой, приписав к первой дроби два нуля справа: 3,7 = 3,700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Затем складываем столбико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3048120" y="4495680"/>
                <a:ext cx="5331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6" name=""/>
          <p:cNvSpPr/>
          <p:nvPr/>
        </p:nvSpPr>
        <p:spPr>
          <a:xfrm flipH="1">
            <a:off x="3200040" y="525780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Алгоритм сложения </a:t>
            </a:r>
            <a:br>
              <a:rPr sz="4400"/>
            </a:b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( вычитания ) десятичных дробе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371600" y="4800600"/>
            <a:ext cx="70866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.   Поставить в ответе запятую под запятой в данных дроб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447920" y="2209680"/>
            <a:ext cx="701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332000" y="2205000"/>
            <a:ext cx="71625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.   Записать дроби друг под другом так, чтобы запятая была под запят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3962520"/>
            <a:ext cx="67057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.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Выполнить сложение (вычитание), не обращая внимания   на  запятую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371600" y="3200400"/>
            <a:ext cx="64771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.  Уравнять в дробях количество знаков после запят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533520" y="609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так, подведем итоги. Мы выяснили как записываются десятичные дроби, как читаются, как сравниваются, как складываются и вычитаю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ы изучили десятичные дроби, теперь мы многое о них знаем, будем использовать их в нашей жиз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у выполнили ученики 5 «г» класса, группа «Теоретиков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тров Ив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доров Вик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шарин Пав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скова Ан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утин Андр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терату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иленкин Н.Я., Жохов В.И., Чесноков А.С., Шварцбурд С.И – математика 5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ff"/>
                </a:solidFill>
                <a:latin typeface="Arial"/>
              </a:rPr>
              <a:t>Числа  со  знаменателем </a:t>
            </a:r>
            <a:br>
              <a:rPr sz="3600"/>
            </a:br>
            <a:r>
              <a:rPr b="0" lang="en-US" sz="3600" spc="-1" strike="noStrike">
                <a:solidFill>
                  <a:srgbClr val="6600ff"/>
                </a:solidFill>
                <a:latin typeface="Arial"/>
              </a:rPr>
              <a:t>10;  100; 1000 и т.д.  условились  записывать  без  знаменате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ff"/>
                </a:solidFill>
                <a:latin typeface="Arial"/>
              </a:rPr>
              <a:t>Рассмотрим число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5864400" y="1600200"/>
            <a:ext cx="3279600" cy="2185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5181480" y="3200400"/>
                <a:ext cx="243864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Cooper Black"/>
              </a:rPr>
              <a:t>АЛГОРИТ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794052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100"/>
              </a:spcBef>
              <a:buClr>
                <a:srgbClr val="ff99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Записываем целую часть числа  и  ставим  запяту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4855680" y="1980720"/>
            <a:ext cx="3629160" cy="1876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927000" y="4024440"/>
                <a:ext cx="3651480" cy="17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0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4038480" y="4038480"/>
                <a:ext cx="1527120" cy="18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Cooper Black"/>
              </a:rPr>
              <a:t>АЛГОРИТ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794052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spcBef>
                <a:spcPts val="1001"/>
              </a:spcBef>
              <a:buClr>
                <a:srgbClr val="0000ff"/>
              </a:buClr>
              <a:buSzPct val="7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После запятой  поставим  столько  точек,  сколько  нулей  в знаменателе  дробной  ча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4855680" y="1980720"/>
            <a:ext cx="3629160" cy="187668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3"/>
          <a:stretch/>
        </p:blipFill>
        <p:spPr>
          <a:xfrm>
            <a:off x="4854240" y="3989520"/>
            <a:ext cx="3632040" cy="1877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1371600" y="4191120"/>
                <a:ext cx="2362320" cy="19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0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9880" y="4343400"/>
                <a:ext cx="2819520" cy="18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Cooper Black"/>
              </a:rPr>
              <a:t>АЛГОРИТ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63160" y="1598400"/>
            <a:ext cx="773748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0000ff"/>
              </a:buClr>
              <a:buSzPct val="7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С  последней  точки  записываем числитель, начиная  с последнего  зна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4855680" y="1980720"/>
            <a:ext cx="3629160" cy="187668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4854240" y="3989520"/>
            <a:ext cx="3632040" cy="1877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990720" y="4191120"/>
                <a:ext cx="2361960" cy="19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0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3505320" y="4343400"/>
                <a:ext cx="3581280" cy="18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Cooper Black"/>
              </a:rPr>
              <a:t>АЛГОРИТ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773748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100"/>
              </a:spcBef>
              <a:buClr>
                <a:srgbClr val="0000ff"/>
              </a:buClr>
              <a:buSzPct val="7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В  пустые  места записываем  нул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4855680" y="1980720"/>
            <a:ext cx="3629160" cy="187668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3"/>
          <a:stretch/>
        </p:blipFill>
        <p:spPr>
          <a:xfrm>
            <a:off x="4854240" y="3989520"/>
            <a:ext cx="3632040" cy="1877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762120" y="2971800"/>
                <a:ext cx="2361960" cy="199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0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3124080" y="3200400"/>
                <a:ext cx="4114800" cy="17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3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6" name=""/>
          <p:cNvSpPr/>
          <p:nvPr/>
        </p:nvSpPr>
        <p:spPr>
          <a:xfrm>
            <a:off x="304920" y="4876920"/>
            <a:ext cx="7162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Так  как  эти числа  равны, то десятичную  дробь  читают  аналогичн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609120" y="2743200"/>
            <a:ext cx="71629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51804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Arial"/>
              </a:rPr>
              <a:t>семь  целы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51804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Arial"/>
              </a:rPr>
              <a:t>тридцать четыр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51804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Arial"/>
              </a:rPr>
              <a:t>десятитысячны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4855680" y="1980720"/>
            <a:ext cx="3629160" cy="18766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3"/>
          <a:stretch/>
        </p:blipFill>
        <p:spPr>
          <a:xfrm>
            <a:off x="4854240" y="3989520"/>
            <a:ext cx="3632040" cy="1877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1828800" y="609480"/>
                <a:ext cx="3581280" cy="17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34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0" y="1685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Прямоугольник 6" descr=""/>
          <p:cNvPicPr/>
          <p:nvPr/>
        </p:nvPicPr>
        <p:blipFill>
          <a:blip r:embed="rId2"/>
          <a:stretch/>
        </p:blipFill>
        <p:spPr>
          <a:xfrm>
            <a:off x="1981080" y="0"/>
            <a:ext cx="4388040" cy="1195560"/>
          </a:xfrm>
          <a:prstGeom prst="rect">
            <a:avLst/>
          </a:prstGeom>
          <a:ln w="0">
            <a:noFill/>
          </a:ln>
        </p:spPr>
      </p:pic>
      <p:sp>
        <p:nvSpPr>
          <p:cNvPr id="334" name="TextBox 7"/>
          <p:cNvSpPr/>
          <p:nvPr/>
        </p:nvSpPr>
        <p:spPr>
          <a:xfrm>
            <a:off x="214200" y="5357880"/>
            <a:ext cx="72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alibri"/>
              </a:rPr>
              <a:t>4. Оставшиеся точки заменяем нуля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8"/>
          <p:cNvSpPr/>
          <p:nvPr/>
        </p:nvSpPr>
        <p:spPr>
          <a:xfrm>
            <a:off x="500040" y="4114800"/>
            <a:ext cx="864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3. С последней точки записываем числитель, начиная с последнего зна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10"/>
          <p:cNvSpPr/>
          <p:nvPr/>
        </p:nvSpPr>
        <p:spPr>
          <a:xfrm>
            <a:off x="380880" y="2362320"/>
            <a:ext cx="8572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2. После запятой поставим столько точек, сколько нулей в знаменателе дробной ча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11"/>
          <p:cNvSpPr/>
          <p:nvPr/>
        </p:nvSpPr>
        <p:spPr>
          <a:xfrm>
            <a:off x="762120" y="1295280"/>
            <a:ext cx="771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1. Записываем целую часть числа и ставим запятую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3"/>
          <p:cNvSpPr/>
          <p:nvPr/>
        </p:nvSpPr>
        <p:spPr>
          <a:xfrm>
            <a:off x="685800" y="228600"/>
            <a:ext cx="716292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ff"/>
                </a:solidFill>
                <a:latin typeface="Calibri"/>
              </a:rPr>
              <a:t>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1" i="1" lang="en-US" sz="4800" spc="-1" strike="noStrike">
                <a:solidFill>
                  <a:srgbClr val="ff3300"/>
                </a:solidFill>
                <a:latin typeface="Arial"/>
              </a:rPr>
              <a:t>Сравнение десятичных дробей</a:t>
            </a:r>
            <a:r>
              <a:rPr b="1" i="1" lang="en-US" sz="4800" spc="-1" strike="noStrike">
                <a:solidFill>
                  <a:srgbClr val="ff3300"/>
                </a:solidFill>
                <a:latin typeface="Calibri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04920" y="18288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Правило сравн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33520" y="3124080"/>
            <a:ext cx="6553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1) Если целые части десятичных дробей различны, то больше та дробь, у которой больше целая ча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2)Если целые части десятичных дробей одинаковы, то больше та дробь, у которой больше первый из несовпавших разрядов после запятой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05-23T18:45:08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